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858-C10F-4590-8ACE-42D140C34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 to bring their 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2CE-606D-4F25-9989-E3360A24B4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458-B940-47E6-81EC-28DDC7725B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ption would they like to cover in dep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/whol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12A-C8C5-49F5-930C-16187EA732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EDA-8CC7-46FE-A6C7-FF1BB311E8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F00-CF17-4EEA-8A46-B23197D489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BED6-613B-4B1A-95D4-DE80E92D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8486-AC0F-47C5-B5D5-B7CA37A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85A1-9AC3-4F29-8A29-F308195F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96EB-D43B-40E1-B0E7-F2AA0F1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E1EC-3F27-496F-B787-BA480AB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E871-B7F3-4314-A259-DF8D1828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D564-7AAF-42E9-B660-EEAFEFE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20ED-7944-425A-9A3D-3544D67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2E71-241F-4D5D-80BB-A9426D8B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D896-FDC6-450D-A761-26ED1AC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6595-8C49-4AB5-A43B-96B9A7A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2BB1-883D-4A67-9421-7341D97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B59A-C3D2-4065-8877-AC3B98E0F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ncolnwtl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Writing to Learn</a:t>
            </a:r>
            <a:br>
              <a:rPr sz="4000"/>
            </a:b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Lincoln HS </a:t>
            </a:r>
            <a:br>
              <a:rPr sz="4000"/>
            </a:b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Small Group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4, 2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Lincoln Write to Learn Wiki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371600"/>
            <a:ext cx="7315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lincolnwtl.wikispaces.com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t the various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ead and Reflec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7315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handout from Angela Peery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riting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main idea of this handou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mplications does this reading have on your classroom and wh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33656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8600"/>
                </a:solidFill>
                <a:uFillTx/>
                <a:latin typeface="Arial"/>
              </a:rPr>
              <a:t>Op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76560" y="1752480"/>
            <a:ext cx="33620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8600"/>
                </a:solidFill>
                <a:uFillTx/>
                <a:latin typeface="Arial"/>
              </a:rPr>
              <a:t>Op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The plus, check, minus system of grading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0"/>
            <a:ext cx="35654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, what are our expectations for plus, check, minus work/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1080" y="2286000"/>
            <a:ext cx="35672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content area formative assessments with specific plus, check, minus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Generate Ideas for your Content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828800"/>
            <a:ext cx="7315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meaningful writing opportunities I can create for my student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xpectations go along with those writings for plus, check, min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or next time…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905120"/>
            <a:ext cx="73152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an example of a meaningful writing prompt/student work used for plus, check, minus gr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53Z</dcterms:created>
  <dc:creator>Curto, Sara</dc:creator>
  <dc:description/>
  <dc:language>en-US</dc:language>
  <cp:lastModifiedBy>Curto, Sara</cp:lastModifiedBy>
  <dcterms:modified xsi:type="dcterms:W3CDTF">2012-04-09T17:44:00Z</dcterms:modified>
  <cp:revision>14</cp:revision>
  <dc:subject/>
  <dc:title>Writing to Learn Lincoln HS  Small Group</dc:title>
</cp:coreProperties>
</file>